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4.wmf" ContentType="image/x-wmf"/>
  <Override PartName="/ppt/media/image5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77CE-818B-48FC-B296-E188CD85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818352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040" y="3995640"/>
            <a:ext cx="818352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6D28-0579-4398-8F32-B727E056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304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668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8987-BAF7-487B-AFCF-6D0FFDA4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000" y="144468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6960" y="144468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3040" y="399564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000" y="399564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6960" y="399564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F1E2-2CE0-43D4-83BA-33E0C627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5BBA-5B9B-4B5D-9C0E-54F54AF7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73040" y="1444680"/>
            <a:ext cx="8183520" cy="48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3862-7F67-43AB-8D97-5A4FA5A0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818352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3B8C-0A3F-47C9-823E-F082A8C9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0432-FFE4-426D-8F7B-2AC52AAF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90B9-2533-4815-8C47-5B05643A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73040" y="606600"/>
            <a:ext cx="8183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3AC6-5930-4967-A9DC-FB0CBAB6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304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0C6E-A73F-4952-AC43-1173D793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73040" y="1444680"/>
            <a:ext cx="8183520" cy="48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3E44-2017-440C-A244-154BF98C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668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77BD-A826-4933-9076-94F3FE98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3040" y="3995640"/>
            <a:ext cx="818352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5A4C-732C-4E9D-BFE5-7871CE6F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818352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40" y="3995640"/>
            <a:ext cx="818352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297F-0401-4B24-B6D0-2FB7F6AF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04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668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E8F9-5BBE-45A7-94B4-0F1D978F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0000" y="144468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06960" y="144468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3040" y="399564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0000" y="399564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06960" y="399564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DBE8-13C9-4DD6-8753-01477045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6092F-9EBC-43A0-A60F-256911F1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3040" y="1444680"/>
            <a:ext cx="8183520" cy="48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FF481-BCE9-4C5A-BB83-18CDD8D0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818352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F65FB-01E1-4919-9212-B020704F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683B2-6AB3-44C0-BAC5-E7097ABB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55573-0D86-4F02-97C0-A72B3608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818352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BB44-DA28-48BB-A6D8-709DEB61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73040" y="606600"/>
            <a:ext cx="8183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2A14E-BD4E-460D-A085-AE3C0ED3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4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016EB-A7CB-4AA7-8174-150A8B66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668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1CD1A-59EA-405E-B36E-EF0AD10F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3040" y="3995640"/>
            <a:ext cx="818352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BB4CC-CA17-4A4A-B8B4-3B37CB39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818352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3040" y="3995640"/>
            <a:ext cx="818352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05681-898D-432E-9C7F-405AA0AF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7304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668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E2346-6E30-4100-83CF-0E0339D7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40000" y="144468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06960" y="144468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3040" y="399564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40000" y="399564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06960" y="399564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1EDED-9F90-4552-871D-FECC9E3C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5A657-D5D3-48DC-9ADF-4B284B93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73040" y="1444680"/>
            <a:ext cx="8183520" cy="48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9D70B-B512-486C-81F3-F8FB7F41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818352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D3C9B-175C-4849-8D13-F440E888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95FD-010C-4563-BD24-4EBF797A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DD9DB-AA42-4A44-8489-020DF27B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ADB02-E7B9-4C12-8C1F-F22A23B2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73040" y="606600"/>
            <a:ext cx="8183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C9B2B-EAC8-49CC-87AE-184B9F09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4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D449A-7654-41BF-99CA-EC1FFBED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668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ADA12-71F8-4477-A706-DF05A9AA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3040" y="3995640"/>
            <a:ext cx="818352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AEB37-A640-448C-9B6B-ECFD42AD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818352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3040" y="3995640"/>
            <a:ext cx="818352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F19F5-6F39-4107-BF82-87A0C95C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7304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668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848DA-83F7-499E-B15D-79C02C9C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40000" y="144468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06960" y="144468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3040" y="399564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40000" y="399564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06960" y="3995640"/>
            <a:ext cx="263484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0694F-9FA5-4BE0-BCDD-86D689FC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6598-D468-4BDA-9A05-7A0200CF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73040" y="606600"/>
            <a:ext cx="8183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FC28-9689-45D0-B100-9D7A71E7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04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BD8-A489-4846-B0EF-8FA76DED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6680" y="399564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295B-808F-448A-AEF5-DE036E9E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304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6680" y="1444680"/>
            <a:ext cx="399348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3040" y="3995640"/>
            <a:ext cx="818352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FB0D-CBD9-4273-BBCA-7F78DF81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05C3-C8D6-46BB-8C3E-48885ECCD3C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0D0A-A36B-42D8-A88E-D0785D98AC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ee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0" y="0"/>
            <a:ext cx="9144000" cy="344520"/>
          </a:xfrm>
          <a:prstGeom prst="rect">
            <a:avLst/>
          </a:prstGeom>
          <a:solidFill>
            <a:srgbClr val="6fb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3040" y="60660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469d8f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e8e8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e8e8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029040" y="636120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e8e8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e8e8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e8e8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AB18-0F82-4102-85DF-4698E965B3A1}" type="slidenum">
              <a:rPr b="0" lang="zh-CN" sz="1000" spc="-1" strike="noStrike">
                <a:solidFill>
                  <a:srgbClr val="8e8e8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73040" y="1444680"/>
            <a:ext cx="818352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6fbfb2"/>
              </a:buClr>
              <a:buSzPct val="70000"/>
              <a:buFont typeface="Wingdings" charset="2"/>
              <a:buChar char="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Click to edit the outline text format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lvl="1"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89bdba"/>
              </a:buClr>
              <a:buFont typeface="幼圆"/>
              <a:buChar char=" 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Second Outline Level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lvl="2" marL="642960" indent="-128520" algn="just">
              <a:lnSpc>
                <a:spcPct val="110000"/>
              </a:lnSpc>
              <a:spcBef>
                <a:spcPts val="1012"/>
              </a:spcBef>
              <a:buClr>
                <a:srgbClr val="2f2f2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Third Outline Level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lvl="3" marL="900000" indent="-128520" algn="just">
              <a:lnSpc>
                <a:spcPct val="110000"/>
              </a:lnSpc>
              <a:spcBef>
                <a:spcPts val="1012"/>
              </a:spcBef>
              <a:buClr>
                <a:srgbClr val="2f2f2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Fourth Outline Level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lvl="4" marL="1157400" indent="-128520" algn="just">
              <a:lnSpc>
                <a:spcPct val="110000"/>
              </a:lnSpc>
              <a:spcBef>
                <a:spcPts val="1012"/>
              </a:spcBef>
              <a:buClr>
                <a:srgbClr val="2f2f2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Fifth Outline Level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lvl="5" marL="1157400" indent="-128520" algn="just">
              <a:lnSpc>
                <a:spcPct val="110000"/>
              </a:lnSpc>
              <a:spcBef>
                <a:spcPts val="1012"/>
              </a:spcBef>
              <a:buClr>
                <a:srgbClr val="2f2f2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Sixth Outline Level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lvl="6" marL="1157400" indent="-128520" algn="just">
              <a:lnSpc>
                <a:spcPct val="110000"/>
              </a:lnSpc>
              <a:spcBef>
                <a:spcPts val="1012"/>
              </a:spcBef>
              <a:buClr>
                <a:srgbClr val="2f2f2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Seventh Outline Level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0" y="344520"/>
            <a:ext cx="9144000" cy="138240"/>
          </a:xfrm>
          <a:prstGeom prst="rect">
            <a:avLst/>
          </a:prstGeom>
          <a:solidFill>
            <a:srgbClr val="df61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KSO_FD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fb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12"/>
          <p:cNvSpPr/>
          <p:nvPr/>
        </p:nvSpPr>
        <p:spPr>
          <a:xfrm>
            <a:off x="2732040" y="1662120"/>
            <a:ext cx="3576600" cy="3578040"/>
          </a:xfrm>
          <a:prstGeom prst="ellipse">
            <a:avLst/>
          </a:prstGeom>
          <a:solidFill>
            <a:srgbClr val="eaeedf"/>
          </a:solidFill>
          <a:ln w="1260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3"/>
          <p:cNvSpPr/>
          <p:nvPr/>
        </p:nvSpPr>
        <p:spPr>
          <a:xfrm>
            <a:off x="1587600" y="2570040"/>
            <a:ext cx="5900760" cy="1947960"/>
          </a:xfrm>
          <a:prstGeom prst="rect">
            <a:avLst/>
          </a:prstGeom>
          <a:solidFill>
            <a:srgbClr val="df6165"/>
          </a:solidFill>
          <a:ln w="38160">
            <a:solidFill>
              <a:srgbClr val="eaee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62040" y="2587680"/>
            <a:ext cx="59054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e8e8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e8e8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e8e8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e8e8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e8e8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E1F8-1A34-411A-A080-D4C04AA06B1F}" type="slidenum">
              <a:rPr b="0" lang="zh-CN" sz="1000" spc="-1" strike="noStrike">
                <a:solidFill>
                  <a:srgbClr val="8e8e8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KSO_FD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4600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微软雅黑"/>
              </a:rPr>
              <a:t>Lesson 16   A Skating Lesson</a:t>
            </a:r>
            <a:endParaRPr b="1" lang="en-US" sz="3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539640" y="47628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f2f"/>
                </a:solidFill>
                <a:latin typeface="黑体"/>
                <a:ea typeface="黑体"/>
              </a:rPr>
              <a:t>冀教版 六年级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39895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4560" y="260280"/>
            <a:ext cx="820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微软雅黑"/>
              </a:rPr>
              <a:t>Read the text quickly and answer the questions.</a:t>
            </a:r>
            <a:endParaRPr b="1" lang="en-US" sz="30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6fbfb2"/>
              </a:buClr>
              <a:buSzPct val="70000"/>
              <a:buFont typeface="Wingdings" charset="2"/>
              <a:buChar char="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Can Danny skate?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6fbfb2"/>
              </a:buClr>
              <a:buSzPct val="70000"/>
              <a:buFont typeface="Wingdings" charset="2"/>
              <a:buChar char="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Can Li Ming skate?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</a:rPr>
              <a:t>Read the text carefully and answer the questions.</a:t>
            </a:r>
            <a:endParaRPr b="1" lang="en-US" sz="32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6fbfb2"/>
              </a:buClr>
              <a:buSzPct val="70000"/>
              <a:buFont typeface="Wingdings" charset="2"/>
              <a:buChar char="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What is Danny going to do?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6fbfb2"/>
              </a:buClr>
              <a:buSzPct val="70000"/>
              <a:buFont typeface="Wingdings" charset="2"/>
              <a:buChar char="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Is Danny early or late?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6fbfb2"/>
              </a:buClr>
              <a:buSzPct val="70000"/>
              <a:buFont typeface="Wingdings" charset="2"/>
              <a:buChar char="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Can Li Ming stand up on the ice?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6fbfb2"/>
              </a:buClr>
              <a:buSzPct val="70000"/>
              <a:buFont typeface="Wingdings" charset="2"/>
              <a:buChar char="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Does Li Ming learn fast?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6fbfb2"/>
              </a:buClr>
              <a:buSzPct val="70000"/>
              <a:buFont typeface="Wingdings" charset="2"/>
              <a:buChar char="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What happened to Danny?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6fbfb2"/>
              </a:buClr>
              <a:buSzPct val="70000"/>
              <a:buFont typeface="Wingdings" charset="2"/>
              <a:buChar char="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6fbfb2"/>
                </a:solidFill>
                <a:latin typeface="微软雅黑"/>
              </a:rPr>
              <a:t>What happened to Danny?</a:t>
            </a:r>
            <a:endParaRPr b="0" lang="en-US" sz="36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6fbfb2"/>
              </a:buClr>
              <a:buSzPct val="70000"/>
              <a:buFont typeface="Wingdings" charset="2"/>
              <a:buChar char="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6fbfb2"/>
                </a:solidFill>
                <a:latin typeface="微软雅黑"/>
              </a:rPr>
              <a:t>He fell down.</a:t>
            </a:r>
            <a:endParaRPr b="0" lang="en-US" sz="36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6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6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6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6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600" spc="-1" strike="noStrike">
              <a:solidFill>
                <a:srgbClr val="6fbfb2"/>
              </a:solidFill>
              <a:latin typeface="微软雅黑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2411280" y="2997360"/>
            <a:ext cx="270216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微软雅黑"/>
              </a:rPr>
              <a:t>Look and say</a:t>
            </a: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0160" indent="-200160" algn="just">
              <a:lnSpc>
                <a:spcPct val="110000"/>
              </a:lnSpc>
              <a:spcBef>
                <a:spcPts val="2750"/>
              </a:spcBef>
              <a:buClr>
                <a:srgbClr val="6fbfb2"/>
              </a:buClr>
              <a:buSzPct val="70000"/>
              <a:buFont typeface="Wingdings" charset="2"/>
              <a:buChar char="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Can you _____ ?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-200160" algn="just">
              <a:lnSpc>
                <a:spcPct val="110000"/>
              </a:lnSpc>
              <a:spcBef>
                <a:spcPts val="2750"/>
              </a:spcBef>
              <a:buClr>
                <a:srgbClr val="6fbfb2"/>
              </a:buClr>
              <a:buSzPct val="70000"/>
              <a:buFont typeface="Wingdings" charset="2"/>
              <a:buChar char="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Yes, I can. (No, I can’t)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-200160" algn="just">
              <a:lnSpc>
                <a:spcPct val="110000"/>
              </a:lnSpc>
              <a:spcBef>
                <a:spcPts val="2750"/>
              </a:spcBef>
              <a:buClr>
                <a:srgbClr val="6fbfb2"/>
              </a:buClr>
              <a:buSzPct val="70000"/>
              <a:buFont typeface="Wingdings" charset="2"/>
              <a:buChar char="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6fbfb2"/>
                </a:solidFill>
                <a:latin typeface="微软雅黑"/>
              </a:rPr>
              <a:t>I think I can.</a:t>
            </a: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200" spc="-1" strike="noStrike">
              <a:solidFill>
                <a:srgbClr val="6fbfb2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900000" y="4762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f2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da xue zhang"/>
          <p:cNvPicPr/>
          <p:nvPr/>
        </p:nvPicPr>
        <p:blipFill>
          <a:blip r:embed="rId1"/>
          <a:stretch/>
        </p:blipFill>
        <p:spPr>
          <a:xfrm>
            <a:off x="3708360" y="765000"/>
            <a:ext cx="1728720" cy="1292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ride"/>
          <p:cNvPicPr/>
          <p:nvPr/>
        </p:nvPicPr>
        <p:blipFill>
          <a:blip r:embed="rId2"/>
          <a:stretch/>
        </p:blipFill>
        <p:spPr>
          <a:xfrm>
            <a:off x="3635280" y="3357720"/>
            <a:ext cx="1190880" cy="1787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tiao"/>
          <p:cNvPicPr/>
          <p:nvPr/>
        </p:nvPicPr>
        <p:blipFill>
          <a:blip r:embed="rId3"/>
          <a:stretch/>
        </p:blipFill>
        <p:spPr>
          <a:xfrm>
            <a:off x="826920" y="3284640"/>
            <a:ext cx="1398600" cy="1787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make4"/>
          <p:cNvPicPr/>
          <p:nvPr/>
        </p:nvPicPr>
        <p:blipFill>
          <a:blip r:embed="rId4"/>
          <a:stretch/>
        </p:blipFill>
        <p:spPr>
          <a:xfrm>
            <a:off x="468360" y="692280"/>
            <a:ext cx="1800000" cy="1395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U179P4T8D1440718F107DT20081107091048"/>
          <p:cNvPicPr/>
          <p:nvPr/>
        </p:nvPicPr>
        <p:blipFill>
          <a:blip r:embed="rId5"/>
          <a:srcRect l="0" t="0" r="-1856" b="16095"/>
          <a:stretch/>
        </p:blipFill>
        <p:spPr>
          <a:xfrm>
            <a:off x="6084720" y="3429000"/>
            <a:ext cx="1212840" cy="1500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01100000000019115768543097164_s"/>
          <p:cNvPicPr/>
          <p:nvPr/>
        </p:nvPicPr>
        <p:blipFill>
          <a:blip r:embed="rId6"/>
          <a:srcRect l="0" t="0" r="302" b="3561"/>
          <a:stretch/>
        </p:blipFill>
        <p:spPr>
          <a:xfrm>
            <a:off x="6950160" y="836640"/>
            <a:ext cx="1703160" cy="1236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0"/>
          <p:cNvSpPr/>
          <p:nvPr/>
        </p:nvSpPr>
        <p:spPr>
          <a:xfrm>
            <a:off x="179280" y="2276640"/>
            <a:ext cx="24480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f2f2f"/>
                </a:solidFill>
                <a:latin typeface="Arial"/>
              </a:rPr>
              <a:t>make a snow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4500720" y="2276640"/>
            <a:ext cx="244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6fbfb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f2f2f"/>
                </a:solidFill>
                <a:latin typeface="Arial"/>
              </a:rPr>
              <a:t>play snowb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2627280" y="2276640"/>
            <a:ext cx="1514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6fbfb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f2f2f"/>
                </a:solidFill>
                <a:latin typeface="Arial"/>
              </a:rPr>
              <a:t>sw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7236000" y="242100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6fbfb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f2f2f"/>
                </a:solidFill>
                <a:latin typeface="Arial"/>
              </a:rPr>
              <a:t>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755640" y="5445000"/>
            <a:ext cx="15145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6fbfb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f2f2f"/>
                </a:solidFill>
                <a:latin typeface="Arial"/>
              </a:rPr>
              <a:t>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3780000" y="5589720"/>
            <a:ext cx="151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6fbfb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f2f2f"/>
                </a:solidFill>
                <a:latin typeface="Arial"/>
              </a:rPr>
              <a:t>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6012000" y="5516640"/>
            <a:ext cx="151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6fbfb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f2f2f"/>
                </a:solidFill>
                <a:latin typeface="Arial"/>
              </a:rPr>
              <a:t>sk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670716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微软雅黑"/>
              </a:rPr>
              <a:t>Ask and answer. Then write.</a:t>
            </a:r>
            <a:r>
              <a:rPr b="1" lang="en-US" sz="2800" spc="-1" strike="noStrike">
                <a:solidFill>
                  <a:srgbClr val="469d8f"/>
                </a:solidFill>
                <a:latin typeface="微软雅黑"/>
              </a:rPr>
              <a:t> </a:t>
            </a: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82296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微软雅黑"/>
              </a:rPr>
              <a:t>Today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</a:rPr>
              <a:t>s homework</a:t>
            </a:r>
            <a:endParaRPr b="1" lang="en-US" sz="2800" spc="-1" strike="noStrike">
              <a:solidFill>
                <a:srgbClr val="469d8f"/>
              </a:solidFill>
              <a:latin typeface="微软雅黑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016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600" spc="-1" strike="noStrike">
              <a:solidFill>
                <a:srgbClr val="6fbfb2"/>
              </a:solidFill>
              <a:latin typeface="微软雅黑"/>
            </a:endParaRPr>
          </a:p>
          <a:p>
            <a:pPr marL="20016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600" spc="-1" strike="noStrike">
              <a:solidFill>
                <a:srgbClr val="6fbfb2"/>
              </a:solidFill>
              <a:latin typeface="微软雅黑"/>
            </a:endParaRPr>
          </a:p>
        </p:txBody>
      </p:sp>
      <p:pic>
        <p:nvPicPr>
          <p:cNvPr id="204" name="Object 7" descr=""/>
          <p:cNvPicPr/>
          <p:nvPr/>
        </p:nvPicPr>
        <p:blipFill>
          <a:blip r:embed="rId1"/>
          <a:stretch/>
        </p:blipFill>
        <p:spPr>
          <a:xfrm>
            <a:off x="0" y="4076640"/>
            <a:ext cx="1182600" cy="1533600"/>
          </a:xfrm>
          <a:prstGeom prst="rect">
            <a:avLst/>
          </a:prstGeom>
          <a:ln w="0">
            <a:noFill/>
          </a:ln>
        </p:spPr>
      </p:pic>
      <p:pic>
        <p:nvPicPr>
          <p:cNvPr id="205" name="Object 9" descr=""/>
          <p:cNvPicPr/>
          <p:nvPr/>
        </p:nvPicPr>
        <p:blipFill>
          <a:blip r:embed="rId2"/>
          <a:stretch/>
        </p:blipFill>
        <p:spPr>
          <a:xfrm>
            <a:off x="0" y="2238480"/>
            <a:ext cx="1670040" cy="1477800"/>
          </a:xfrm>
          <a:prstGeom prst="rect">
            <a:avLst/>
          </a:prstGeom>
          <a:ln w="0">
            <a:noFill/>
          </a:ln>
        </p:spPr>
      </p:pic>
      <p:pic>
        <p:nvPicPr>
          <p:cNvPr id="206" name="Object 11" descr=""/>
          <p:cNvPicPr/>
          <p:nvPr/>
        </p:nvPicPr>
        <p:blipFill>
          <a:blip r:embed="rId3"/>
          <a:stretch/>
        </p:blipFill>
        <p:spPr>
          <a:xfrm>
            <a:off x="611280" y="4164120"/>
            <a:ext cx="2160360" cy="17841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2"/>
          <p:cNvSpPr/>
          <p:nvPr/>
        </p:nvSpPr>
        <p:spPr>
          <a:xfrm>
            <a:off x="5508720" y="4221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f2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2f2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2f2f2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Object 13" descr=""/>
          <p:cNvPicPr/>
          <p:nvPr/>
        </p:nvPicPr>
        <p:blipFill>
          <a:blip r:embed="rId4"/>
          <a:stretch/>
        </p:blipFill>
        <p:spPr>
          <a:xfrm>
            <a:off x="5364000" y="2276640"/>
            <a:ext cx="1800360" cy="1584000"/>
          </a:xfrm>
          <a:prstGeom prst="rect">
            <a:avLst/>
          </a:prstGeom>
          <a:ln w="0">
            <a:noFill/>
          </a:ln>
        </p:spPr>
      </p:pic>
      <p:pic>
        <p:nvPicPr>
          <p:cNvPr id="209" name="Object 14" descr=""/>
          <p:cNvPicPr/>
          <p:nvPr/>
        </p:nvPicPr>
        <p:blipFill>
          <a:blip r:embed="rId5"/>
          <a:stretch/>
        </p:blipFill>
        <p:spPr>
          <a:xfrm>
            <a:off x="831960" y="2205000"/>
            <a:ext cx="1711080" cy="17463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5"/>
          <p:cNvSpPr/>
          <p:nvPr/>
        </p:nvSpPr>
        <p:spPr>
          <a:xfrm>
            <a:off x="684360" y="1268280"/>
            <a:ext cx="7775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6fbfb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f2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2f2f"/>
                </a:solidFill>
                <a:latin typeface="Arial"/>
              </a:rPr>
              <a:t>Write a short story about sports you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200400" y="2384280"/>
            <a:ext cx="3460680" cy="24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谢谢  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再见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00:54:58Z</dcterms:created>
  <dc:creator>冬爽</dc:creator>
  <dc:description/>
  <dc:language>en-US</dc:language>
  <cp:lastModifiedBy>admin</cp:lastModifiedBy>
  <dcterms:modified xsi:type="dcterms:W3CDTF">2015-12-11T06:43:04Z</dcterms:modified>
  <cp:revision>44</cp:revision>
  <dc:subject/>
  <dc:title>Lesson 21 A Skating Less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